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F1D6-6375-4B91-BC4B-207E2AEA7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95FD-D661-48B9-B80E-1A37BECAB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FD6-13D2-4F85-A645-48F50855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624-F7CA-4D1F-901B-63BCC87C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538-173C-4428-90D1-C7D4FC27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BB1-5098-417E-8B7D-D15C7579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35F-3A09-47F5-A292-F889BBC5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51F-1B61-45FD-95BC-5C2836D3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31D-67A4-42E1-A0CD-B10BD440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2B3-BCE3-4036-85DC-EC1132BC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AE4-CDFB-4DBF-B5DD-AC11246A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D92-4AA1-42F0-8C07-F1B29F78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705-9DF5-4400-BD26-CBDA31A8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1A8-1318-4766-BF08-A5CD539B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FA8D-1318-4301-9EB4-F8119BD72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1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ina Lab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mina La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mina Labane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mina Laba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mina Laba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76720"/>
            <a:ext cx="167652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9436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343400"/>
            <a:ext cx="167652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228600" y="5105520"/>
            <a:ext cx="53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us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05320"/>
            <a:ext cx="16765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¿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mo estas? Mi nombre es Amina &lt;3 Yo vivo en New York City. Tengo catorce años. No tengo hermanos. Yo soy divertida, inteligente y simpática. Estoy feliz! </a:t>
            </a:r>
            <a:r>
              <a:rPr b="0" lang="es-ES_tradnl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En una relación con Justi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62120" y="51055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533520" y="57150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895480" y="3657600"/>
            <a:ext cx="49532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895480" y="3048120"/>
            <a:ext cx="495324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95480" y="2438280"/>
            <a:ext cx="49532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udio y limpio </a:t>
            </a:r>
            <a:r>
              <a:rPr b="0" lang="es-ES_tradnl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Buenas noches! Hasta mañana!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1 secpnd ago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95480" y="4267080"/>
            <a:ext cx="49532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95480" y="4800600"/>
            <a:ext cx="49532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95480" y="5410080"/>
            <a:ext cx="49532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819520" y="1905120"/>
            <a:ext cx="274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! ¿cómo están mis amigo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Screen Shot 2012-12-04 at 9.53.06 AM.png"/>
          <p:cNvPicPr/>
          <p:nvPr/>
        </p:nvPicPr>
        <p:blipFill>
          <a:blip r:embed="rId1"/>
          <a:stretch/>
        </p:blipFill>
        <p:spPr>
          <a:xfrm>
            <a:off x="2133720" y="4267080"/>
            <a:ext cx="60948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Screen Shot 2012-12-04 at 9.56.14 AM.png"/>
          <p:cNvPicPr/>
          <p:nvPr/>
        </p:nvPicPr>
        <p:blipFill>
          <a:blip r:embed="rId2"/>
          <a:stretch/>
        </p:blipFill>
        <p:spPr>
          <a:xfrm>
            <a:off x="2209680" y="4800600"/>
            <a:ext cx="533520" cy="52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4" descr="Screen Shot 2012-12-04 at 9.56.14 AM.png"/>
          <p:cNvPicPr/>
          <p:nvPr/>
        </p:nvPicPr>
        <p:blipFill>
          <a:blip r:embed="rId3"/>
          <a:stretch/>
        </p:blipFill>
        <p:spPr>
          <a:xfrm>
            <a:off x="152280" y="4572000"/>
            <a:ext cx="559080" cy="554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6" descr="Screen Shot 2012-12-04 at 9.53.06 AM.png"/>
          <p:cNvPicPr/>
          <p:nvPr/>
        </p:nvPicPr>
        <p:blipFill>
          <a:blip r:embed="rId4"/>
          <a:stretch/>
        </p:blipFill>
        <p:spPr>
          <a:xfrm>
            <a:off x="1143000" y="4572000"/>
            <a:ext cx="65556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Photo on 12-5-12 at 9.47 AM.jpg"/>
          <p:cNvPicPr/>
          <p:nvPr/>
        </p:nvPicPr>
        <p:blipFill>
          <a:blip r:embed="rId5"/>
          <a:stretch/>
        </p:blipFill>
        <p:spPr>
          <a:xfrm>
            <a:off x="609480" y="5334120"/>
            <a:ext cx="609840" cy="406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Photo on 12-5-12 at 9.47 AM.jpg"/>
          <p:cNvPicPr/>
          <p:nvPr/>
        </p:nvPicPr>
        <p:blipFill>
          <a:blip r:embed="rId6"/>
          <a:stretch/>
        </p:blipFill>
        <p:spPr>
          <a:xfrm>
            <a:off x="2133720" y="6019920"/>
            <a:ext cx="609480" cy="4064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2895480" y="54864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@Jamie y Amina! Nosotras tenemos que ir a comprar juntas. Esta energic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3 hours ago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6" descr="Screen Shot 2012-12-04 at 9.53.06 AM.png"/>
          <p:cNvPicPr/>
          <p:nvPr/>
        </p:nvPicPr>
        <p:blipFill>
          <a:blip r:embed="rId7"/>
          <a:stretch/>
        </p:blipFill>
        <p:spPr>
          <a:xfrm>
            <a:off x="2057400" y="5410080"/>
            <a:ext cx="685800" cy="54468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895480" y="4724280"/>
            <a:ext cx="65534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Just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pasa? Tu eres muy bonita. ¿Puedes venir a mi casa? ;) Ellos son cansad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10 minutes ago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895480" y="4114800"/>
            <a:ext cx="62485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rmel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@Justin, Amina no puede ir a tu casa. conmigo y Jamie.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5 minutes ago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2895480" y="3657600"/>
            <a:ext cx="510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 siento mis amigos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@Justin, @Jamie@ Carmela. Yo puedo ven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 minutes ago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7"/>
          <p:cNvSpPr/>
          <p:nvPr/>
        </p:nvSpPr>
        <p:spPr>
          <a:xfrm>
            <a:off x="2895480" y="6019920"/>
            <a:ext cx="49532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Jam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na! ¿A dónde quieres ir a comprar? </a:t>
            </a:r>
            <a:r>
              <a:rPr b="0" lang="es-ES_tradnl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5 hours ago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IMG_3781.JPG"/>
          <p:cNvPicPr/>
          <p:nvPr/>
        </p:nvPicPr>
        <p:blipFill>
          <a:blip r:embed="rId8"/>
          <a:stretch/>
        </p:blipFill>
        <p:spPr>
          <a:xfrm>
            <a:off x="304920" y="1371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3" descr="IMG_3781.JPG"/>
          <p:cNvPicPr/>
          <p:nvPr/>
        </p:nvPicPr>
        <p:blipFill>
          <a:blip r:embed="rId9"/>
          <a:stretch/>
        </p:blipFill>
        <p:spPr>
          <a:xfrm>
            <a:off x="2209680" y="36576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2930040" y="3048120"/>
            <a:ext cx="5029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m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Por que comprar es divertido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1 minute ago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Photo on 12-5-12 at 9.47 AM.jpg"/>
          <p:cNvPicPr/>
          <p:nvPr/>
        </p:nvPicPr>
        <p:blipFill>
          <a:blip r:embed="rId10"/>
          <a:stretch/>
        </p:blipFill>
        <p:spPr>
          <a:xfrm>
            <a:off x="2133720" y="3048120"/>
            <a:ext cx="609480" cy="406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6" descr="IMG_3781.JPG"/>
          <p:cNvPicPr/>
          <p:nvPr/>
        </p:nvPicPr>
        <p:blipFill>
          <a:blip r:embed="rId11"/>
          <a:stretch/>
        </p:blipFill>
        <p:spPr>
          <a:xfrm>
            <a:off x="2209680" y="2438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4:58:31Z</dcterms:modified>
  <cp:revision>123</cp:revision>
  <dc:subject/>
  <dc:title>Profile</dc:title>
</cp:coreProperties>
</file>